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8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ftr" idx="9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 type="sldNum" idx="10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86AF0-4780-435B-A32E-BC32D89FE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A6512-B17E-497A-9BFF-A6FB01390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B258C-BD0E-4D55-A4F9-2F7D5CA9D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6427C-AACD-4A33-8E0F-0F46BD13B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820D9-01AC-4578-93DB-28B2A05E7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A86F5-BBFB-4DB0-9B7F-ED7632E7B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7C559-6305-4CF6-B68F-DD9403913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4E721-3131-4277-AD0F-0863B6E71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38B90-CE80-4D9B-BFA0-4D6F8E1BC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43B48-D096-45A0-9743-74E1EAE6C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E1813-A1E7-4340-9E8C-4F8E652EC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A80BF-239B-4F17-95BA-73B9CB95D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B1086-D6E0-4070-A139-EF61D8E33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45263-C8A6-4EB3-BED7-79E2ECC67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660F6-F691-457A-AE19-4EBFFE519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8D82B-C072-48FB-B4B7-2DE8BF065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84603-65A2-47CD-A07B-A5D2E6759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EB303-8D02-4441-B683-F7A8D7150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BC07F-2195-47A2-AFD8-FCD67F2EA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388C2-1317-4B4A-B18E-D6D8DA55E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08EB2-940C-4624-B479-89001DCAC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3B1FD-955B-431D-A392-22C424C2D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FCCEA-D73F-419B-88B9-1332420C64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02358-FDEF-446E-9FDF-34439E2417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0BB39-F156-4ECF-BB33-257C19A8B6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19F7E-925E-47B3-97C2-DE9BCF4D9D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4CD747-A224-4F5C-8C0D-FDA28911A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F1170A-AF35-4A42-BE1A-0B31848CD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805D12-1F40-4BB1-AD3B-CD59A535B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F0F668-FD1D-4250-872F-088AF84D4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0035B1-61ED-4972-914C-7F745E21A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A683F2-49DB-4A07-AF03-BA1EB15CA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720D3B-D770-4411-AF01-6ECD80AE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F30BE-C41C-4A57-83E7-90D3CB90C3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30E4E9-BA96-4F86-8F63-69D957B6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43708C-809F-4775-94DC-B88781F2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53AF57-913B-41CD-BFAB-F17D48779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ED1DD2-4E83-40BE-91C3-DD3B3555A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ABFA20-C1CB-4A66-ADE1-F8588D7BC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307032-9F88-4F05-9F12-911108F8E8B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A1B697-AA6E-401A-A9AD-598FF5FBDCE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F622A4-D1AC-41ED-ADD1-D4C7DC06B4F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BBE21F-AA7C-4890-B8E2-21EF3DE2211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A63235-3FDD-4A04-A7DE-DA77B94E89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741C2-A545-4A17-86B8-403246B9319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7812FE-91BC-4808-B3B3-19626C69171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85D912-ED24-4E5C-B36F-80A36693D90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E89805-EB7B-4111-9240-F4EA1261074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6F59B9-9620-4C73-B023-F6468F3B039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F448B5-EA48-4ED7-B5D5-6796DCEBBAC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AD7538-E9D1-4482-8740-043BB4D67AE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8AE006-8A13-4777-8F63-76DC065607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9209A-B4C1-49EB-9554-15D8DEEA1F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429ED-893D-4C1F-8989-EB88D1D4C1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C76BF-7CBC-42AB-A0AC-5B28DDAD99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C72B8-C044-42E4-B3B0-C3FEE033BA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0E9D6-B28D-482D-8EA1-003ED3C275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92BCE-7C33-4AAF-90AE-FC511E0226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3FE52-5F5C-4C7D-8844-EF65D9F69A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6720"/>
            <a:ext cx="28958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A1EE8-D1B2-42F1-9A3B-ABEA389890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6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6"/>
          </p:nvPr>
        </p:nvSpPr>
        <p:spPr>
          <a:xfrm>
            <a:off x="380880" y="6400080"/>
            <a:ext cx="4114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7"/>
          </p:nvPr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145BC-2AB7-4028-81D0-1BFC283405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FF7BA-5002-46A8-A91B-2B97B83F2E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0968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стема правил Вестгард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1131480"/>
            <a:ext cx="8382240" cy="23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на д-ром Джеймсом О. Вестгардом, основана на принципах статисти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бор правил или критериев для принятия решений о том, «в контроле» ли систем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няют, если в серии анализов поставлены контроли, по меньшей мере, двух уровн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 используют только с одним контрол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Picture 9" descr="westgard_lecturing"/>
          <p:cNvPicPr/>
          <p:nvPr/>
        </p:nvPicPr>
        <p:blipFill>
          <a:blip r:embed="rId1"/>
          <a:stretch/>
        </p:blipFill>
        <p:spPr>
          <a:xfrm>
            <a:off x="2743200" y="39625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10"/>
          <p:cNvSpPr/>
          <p:nvPr/>
        </p:nvSpPr>
        <p:spPr>
          <a:xfrm>
            <a:off x="5884920" y="4114800"/>
            <a:ext cx="211608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р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естгар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3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4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B8100-D7FF-4BF4-951B-5259E7C756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5" descr="7_glu_control-1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7_glu_control_2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38" name="TextBox 1"/>
          <p:cNvSpPr/>
          <p:nvPr/>
        </p:nvSpPr>
        <p:spPr>
          <a:xfrm>
            <a:off x="1074240" y="468360"/>
            <a:ext cx="5269320" cy="274680"/>
          </a:xfrm>
          <a:prstGeom prst="rect">
            <a:avLst/>
          </a:prstGeom>
          <a:solidFill>
            <a:srgbClr val="96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ровень 1. Глюкоза: Номер партии а1б2-гл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6"/>
          <p:cNvSpPr/>
          <p:nvPr/>
        </p:nvSpPr>
        <p:spPr>
          <a:xfrm>
            <a:off x="1074960" y="3429000"/>
            <a:ext cx="5267880" cy="274680"/>
          </a:xfrm>
          <a:prstGeom prst="rect">
            <a:avLst/>
          </a:prstGeom>
          <a:solidFill>
            <a:srgbClr val="96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ровень 2. Глюкоза: Номер партии а2в3-гл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7"/>
          <p:cNvSpPr/>
          <p:nvPr/>
        </p:nvSpPr>
        <p:spPr>
          <a:xfrm>
            <a:off x="4584600" y="5911920"/>
            <a:ext cx="506880" cy="182880"/>
          </a:xfrm>
          <a:prstGeom prst="rect">
            <a:avLst/>
          </a:prstGeom>
          <a:solidFill>
            <a:srgbClr val="96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Д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9B00E-12EA-4833-9FC6-EFCBEABE7E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ooter Placeholder 1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2"/>
          <p:cNvSpPr/>
          <p:nvPr/>
        </p:nvSpPr>
        <p:spPr>
          <a:xfrm>
            <a:off x="6629400" y="642924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561600"/>
            <a:ext cx="82296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Ответы для занят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838080" y="1704600"/>
            <a:ext cx="7391520" cy="41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н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21, 22, 24, 26, 27, 30, 31, 33, 34, 36-44 –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«в контроле»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н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нь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нь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нь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0E791-AF9E-4469-989C-7B5C458571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3840" y="399960"/>
            <a:ext cx="83692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Названия правил системы Вестгарда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61760" y="1695600"/>
            <a:ext cx="4190760" cy="48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авило 1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авило 1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авило 2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авило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авило 4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авило 10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76920" y="1447560"/>
            <a:ext cx="411480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ctr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спользуют для серий исследований, в которых поставлены контроли двух уровне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11" descr="j0082253"/>
          <p:cNvPicPr/>
          <p:nvPr/>
        </p:nvPicPr>
        <p:blipFill>
          <a:blip r:embed="rId1"/>
          <a:stretch/>
        </p:blipFill>
        <p:spPr>
          <a:xfrm>
            <a:off x="5791320" y="3276720"/>
            <a:ext cx="2501640" cy="3047760"/>
          </a:xfrm>
          <a:prstGeom prst="rect">
            <a:avLst/>
          </a:prstGeom>
          <a:ln w="0">
            <a:noFill/>
          </a:ln>
        </p:spPr>
      </p:pic>
      <p:sp>
        <p:nvSpPr>
          <p:cNvPr id="178" name="Straight Connector 2"/>
          <p:cNvSpPr/>
          <p:nvPr/>
        </p:nvSpPr>
        <p:spPr>
          <a:xfrm>
            <a:off x="4302000" y="57150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A8512-06E1-42EE-A905-D1F9D082AF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553680"/>
            <a:ext cx="6400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авило Вестгарда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10480" cy="446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АВИЛ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ЕДУПРЕЖДЕНИЕ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 причина для признания серии неприемлемо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зультат одного из двух контролей попадает вне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казывает на возможные проблем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ледующим шагом применить правило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73423-930D-4744-BE59-8CB53CF294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2"/>
          <p:cNvSpPr/>
          <p:nvPr/>
        </p:nvSpPr>
        <p:spPr>
          <a:xfrm>
            <a:off x="6629400" y="642924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04920" y="1352520"/>
            <a:ext cx="868680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начения контроля одного уровня в двух последовательных сериях оказываются вне интервала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±2SD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и по одну сторону ил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а контроля в одной серии оказываются вне интервала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±2SD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льзя выдавать результаты анализ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ются корректирующие действ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457200" y="460800"/>
            <a:ext cx="6400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авило Вестгарда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B2777-07E1-45D5-B2D7-38648C9530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ooter Placeholder 1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2"/>
          <p:cNvSpPr/>
          <p:nvPr/>
        </p:nvSpPr>
        <p:spPr>
          <a:xfrm>
            <a:off x="6629400" y="642924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начение одного контроля меньше, чем «среднее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», а значение другого контроля больше, чем «среднее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тервал между двумя результатами превышает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4 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изошла случайная ошибка, серия результатов должна считаться неприемлемо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457200" y="552960"/>
            <a:ext cx="6400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авило Вестгарда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49999-0A41-475B-8958-95892DF75F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ooter Placeholder 1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2"/>
          <p:cNvSpPr/>
          <p:nvPr/>
        </p:nvSpPr>
        <p:spPr>
          <a:xfrm>
            <a:off x="6629400" y="642924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533160" y="1447920"/>
            <a:ext cx="7848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ются данные контролей предшествующих сер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начения КК одного уровня в четырех последовательных сериях вне интервала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±1SD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по одну сторону от среднего ил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нтроли обоих уровней в последовательных сериях вне интервала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±1SD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по одну сторон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457200" y="537120"/>
            <a:ext cx="6400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авило Вестгарда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5332B-EF26-43D5-BDD4-5F40C45121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ooter Placeholder 1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2"/>
          <p:cNvSpPr/>
          <p:nvPr/>
        </p:nvSpPr>
        <p:spPr>
          <a:xfrm>
            <a:off x="6629400" y="642924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9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ются данные контролей предшествующих сер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начения КК одного уровня в десяти последовательных сериях по одну сторону от среднего ил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нтроли обоих уровней в пяти последовательных сериях по одну сторону от среднег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457200" y="552960"/>
            <a:ext cx="6400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авило Вестгарда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traight Connector 2"/>
          <p:cNvSpPr/>
          <p:nvPr/>
        </p:nvSpPr>
        <p:spPr>
          <a:xfrm>
            <a:off x="5867280" y="912960"/>
            <a:ext cx="228600" cy="0"/>
          </a:xfrm>
          <a:prstGeom prst="line">
            <a:avLst/>
          </a:prstGeom>
          <a:ln w="1908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35BB8-10E4-49E3-8F72-0F7C0ADFB0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ooter Placeholder 1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482760"/>
            <a:ext cx="77724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КК по правилам Вестгард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12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13" name="TextBox 1"/>
          <p:cNvSpPr/>
          <p:nvPr/>
        </p:nvSpPr>
        <p:spPr>
          <a:xfrm>
            <a:off x="2133720" y="2633760"/>
            <a:ext cx="532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7"/>
          <p:cNvSpPr/>
          <p:nvPr/>
        </p:nvSpPr>
        <p:spPr>
          <a:xfrm>
            <a:off x="2056320" y="4248000"/>
            <a:ext cx="424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8"/>
          <p:cNvSpPr/>
          <p:nvPr/>
        </p:nvSpPr>
        <p:spPr>
          <a:xfrm>
            <a:off x="3670920" y="4248000"/>
            <a:ext cx="424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9"/>
          <p:cNvSpPr/>
          <p:nvPr/>
        </p:nvSpPr>
        <p:spPr>
          <a:xfrm>
            <a:off x="5256720" y="4248000"/>
            <a:ext cx="424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0"/>
          <p:cNvSpPr/>
          <p:nvPr/>
        </p:nvSpPr>
        <p:spPr>
          <a:xfrm>
            <a:off x="6780600" y="4248000"/>
            <a:ext cx="424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1"/>
          <p:cNvSpPr/>
          <p:nvPr/>
        </p:nvSpPr>
        <p:spPr>
          <a:xfrm>
            <a:off x="7390440" y="3703680"/>
            <a:ext cx="424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2"/>
          <p:cNvSpPr/>
          <p:nvPr/>
        </p:nvSpPr>
        <p:spPr>
          <a:xfrm>
            <a:off x="914400" y="3726000"/>
            <a:ext cx="485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3"/>
          <p:cNvSpPr/>
          <p:nvPr/>
        </p:nvSpPr>
        <p:spPr>
          <a:xfrm>
            <a:off x="838080" y="5105520"/>
            <a:ext cx="561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4"/>
          <p:cNvSpPr/>
          <p:nvPr/>
        </p:nvSpPr>
        <p:spPr>
          <a:xfrm>
            <a:off x="2386080" y="5129280"/>
            <a:ext cx="561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5"/>
          <p:cNvSpPr/>
          <p:nvPr/>
        </p:nvSpPr>
        <p:spPr>
          <a:xfrm>
            <a:off x="3979800" y="5129280"/>
            <a:ext cx="561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6"/>
          <p:cNvSpPr/>
          <p:nvPr/>
        </p:nvSpPr>
        <p:spPr>
          <a:xfrm>
            <a:off x="5533920" y="5129280"/>
            <a:ext cx="561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17"/>
          <p:cNvSpPr/>
          <p:nvPr/>
        </p:nvSpPr>
        <p:spPr>
          <a:xfrm>
            <a:off x="7110360" y="5129280"/>
            <a:ext cx="561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8"/>
          <p:cNvSpPr/>
          <p:nvPr/>
        </p:nvSpPr>
        <p:spPr>
          <a:xfrm>
            <a:off x="3049560" y="2843280"/>
            <a:ext cx="50277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В КОНТРОЛЕ»                  СЕРИЯ ПРИЕМЛЕМ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9"/>
          <p:cNvSpPr/>
          <p:nvPr/>
        </p:nvSpPr>
        <p:spPr>
          <a:xfrm>
            <a:off x="1523880" y="5605560"/>
            <a:ext cx="67820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ВНЕ КОНТРОЛЯ»                              СЕРИЯ НЕПРИЕМЛЕМ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rapezoid 6"/>
          <p:cNvSpPr/>
          <p:nvPr/>
        </p:nvSpPr>
        <p:spPr>
          <a:xfrm>
            <a:off x="647640" y="1332000"/>
            <a:ext cx="1658880" cy="863640"/>
          </a:xfrm>
          <a:prstGeom prst="pie">
            <a:avLst/>
          </a:pr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ные контро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EF811-3ECB-4C9C-A683-6A371CEF75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ooter Placeholder 1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2"/>
          <p:cNvSpPr/>
          <p:nvPr/>
        </p:nvSpPr>
        <p:spPr>
          <a:xfrm>
            <a:off x="6629400" y="642924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7010280" cy="67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99"/>
                </a:solidFill>
                <a:latin typeface="Verdana"/>
              </a:rPr>
              <a:t>Практическое занятие</a:t>
            </a: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990720" y="1560600"/>
            <a:ext cx="723888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Применяя правила Вестгарда, проанализируйте ежедневные значения контролей (следующий слайд)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Olga</cp:lastModifiedBy>
  <dcterms:modified xsi:type="dcterms:W3CDTF">2013-05-11T16:01:01Z</dcterms:modified>
  <cp:revision>21</cp:revision>
  <dc:subject/>
  <dc:title>Westgard Multirule System</dc:title>
</cp:coreProperties>
</file>